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95A-1907-419D-8A9C-8C9E7151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54F-5CDD-4CFE-95F5-34187006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621-7E1E-4FD9-8754-FBFB3DFC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87B-F688-414E-A05D-AD77C5DE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7889-FC6E-43B0-BD49-30F71FCF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9F5A-636E-4884-B1B5-2C2542ED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D346-96DC-4304-9F09-1761D381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3C7B-DF61-4C91-A3D7-19C1420B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2106-228B-401D-91FF-174AF84A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CA19-3D38-4592-848A-D38CF868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4477-21BD-4C0B-8D00-E9CE79E0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BD6-6658-41B9-9794-C4AB4885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C619-EC12-4FF6-951F-4F4D1BA9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716F-F54C-47CA-BD92-61E25A09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5EA9-ABE9-4F66-85D0-ABB9F7B3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A0FF-989C-43CB-8980-7798E3BF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7F3D-DFBC-4A2C-B7C8-1BF26EA0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9CD-9A4F-44F5-819C-3644F220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99E-52B4-41E4-ADAD-9707D92F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E229-1813-49A9-8B90-74BDB931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DE6-6016-4D91-B4C1-F19F0BF1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22A-A47E-4863-9BEE-F46CE343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A2B-6581-4500-A17F-001393D9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929-EB80-45A9-99A0-E4F4380C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70520" y="8572680"/>
            <a:ext cx="214200" cy="27936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5689440"/>
            <a:ext cx="6854760" cy="3454200"/>
            <a:chOff x="3240" y="5689440"/>
            <a:chExt cx="6854760" cy="3454200"/>
          </a:xfrm>
        </p:grpSpPr>
        <p:sp>
          <p:nvSpPr>
            <p:cNvPr id="2" name=""/>
            <p:cNvSpPr/>
            <p:nvPr/>
          </p:nvSpPr>
          <p:spPr>
            <a:xfrm>
              <a:off x="3240" y="5689440"/>
              <a:ext cx="6854760" cy="345420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4200840" y="7863120"/>
              <a:ext cx="942120" cy="1101960"/>
              <a:chOff x="4200840" y="7863120"/>
              <a:chExt cx="942120" cy="1101960"/>
            </a:xfrm>
          </p:grpSpPr>
          <p:sp>
            <p:nvSpPr>
              <p:cNvPr id="4" name=""/>
              <p:cNvSpPr/>
              <p:nvPr/>
            </p:nvSpPr>
            <p:spPr>
              <a:xfrm>
                <a:off x="4389840" y="8064000"/>
                <a:ext cx="632880" cy="691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437720" y="8127360"/>
                <a:ext cx="537480" cy="5817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504320" y="8195040"/>
                <a:ext cx="409320" cy="437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551840" y="8245800"/>
                <a:ext cx="311400" cy="33624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592160" y="8300880"/>
                <a:ext cx="228240" cy="22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257720" y="7863120"/>
                <a:ext cx="455760" cy="3405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400640" y="8825760"/>
                <a:ext cx="528120" cy="13932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00840" y="8267040"/>
                <a:ext cx="105840" cy="4572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50520" y="7926120"/>
                <a:ext cx="892440" cy="9752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807440" y="7875720"/>
                <a:ext cx="114120" cy="630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656600" y="8356320"/>
                <a:ext cx="99720" cy="1116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115000" y="7685640"/>
              <a:ext cx="1935000" cy="1445040"/>
              <a:chOff x="2115000" y="7685640"/>
              <a:chExt cx="1935000" cy="1445040"/>
            </a:xfrm>
          </p:grpSpPr>
          <p:sp>
            <p:nvSpPr>
              <p:cNvPr id="16" name=""/>
              <p:cNvSpPr/>
              <p:nvPr/>
            </p:nvSpPr>
            <p:spPr>
              <a:xfrm>
                <a:off x="2700360" y="8326440"/>
                <a:ext cx="759600" cy="797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755080" y="8377560"/>
                <a:ext cx="646200" cy="7023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787120" y="8421480"/>
                <a:ext cx="596160" cy="63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2819520" y="8460000"/>
                <a:ext cx="528480" cy="54540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39680" y="8476560"/>
                <a:ext cx="491400" cy="5076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901240" y="8521200"/>
                <a:ext cx="364320" cy="4057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947680" y="8584560"/>
                <a:ext cx="270000" cy="2854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026520" y="8671680"/>
                <a:ext cx="106560" cy="1263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077640" y="8089560"/>
                <a:ext cx="534240" cy="39312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50600" y="8152920"/>
                <a:ext cx="1061640" cy="97776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478960" y="8101800"/>
                <a:ext cx="484200" cy="10285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556440" y="8559360"/>
                <a:ext cx="128160" cy="53280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462400" y="7799760"/>
                <a:ext cx="993600" cy="3171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223000" y="8155080"/>
                <a:ext cx="203400" cy="97524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513240" y="7939440"/>
                <a:ext cx="428400" cy="119124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760120" y="7685640"/>
                <a:ext cx="1282680" cy="89892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933720" y="8635680"/>
                <a:ext cx="116280" cy="49500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115000" y="7774200"/>
                <a:ext cx="572400" cy="135648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4915080" y="7111800"/>
              <a:ext cx="1608480" cy="1737000"/>
              <a:chOff x="4915080" y="7111800"/>
              <a:chExt cx="1608480" cy="1737000"/>
            </a:xfrm>
          </p:grpSpPr>
          <p:sp>
            <p:nvSpPr>
              <p:cNvPr id="35" name=""/>
              <p:cNvSpPr/>
              <p:nvPr/>
            </p:nvSpPr>
            <p:spPr>
              <a:xfrm>
                <a:off x="5000760" y="7200360"/>
                <a:ext cx="1429560" cy="15465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915080" y="7124040"/>
                <a:ext cx="647640" cy="155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5705280" y="7111800"/>
                <a:ext cx="725040" cy="5331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246000" y="8480880"/>
                <a:ext cx="85680" cy="1141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364000" y="8620560"/>
                <a:ext cx="839160" cy="2282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6353280" y="7733520"/>
                <a:ext cx="170280" cy="72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026040" y="7670160"/>
                <a:ext cx="98640" cy="19044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292360" y="7517520"/>
                <a:ext cx="853560" cy="91224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178240" y="7428960"/>
                <a:ext cx="1081800" cy="112824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34200" y="7390800"/>
                <a:ext cx="434520" cy="13932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313960" y="7530480"/>
                <a:ext cx="78480" cy="1011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12600" y="7636320"/>
                <a:ext cx="616320" cy="67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50760" y="7682760"/>
                <a:ext cx="530640" cy="573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488920" y="7724880"/>
                <a:ext cx="459360" cy="493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541120" y="7784280"/>
                <a:ext cx="354600" cy="37404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584320" y="7826760"/>
                <a:ext cx="264240" cy="294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641200" y="7890120"/>
                <a:ext cx="149760" cy="1717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6320" y="6400440"/>
              <a:ext cx="505440" cy="545760"/>
              <a:chOff x="6286320" y="6400440"/>
              <a:chExt cx="505440" cy="545760"/>
            </a:xfrm>
          </p:grpSpPr>
          <p:sp>
            <p:nvSpPr>
              <p:cNvPr id="53" name=""/>
              <p:cNvSpPr/>
              <p:nvPr/>
            </p:nvSpPr>
            <p:spPr>
              <a:xfrm>
                <a:off x="6286320" y="6742800"/>
                <a:ext cx="455760" cy="20340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28080" y="6400440"/>
                <a:ext cx="306720" cy="1141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720840" y="6489000"/>
                <a:ext cx="70920" cy="32976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399360" y="6869880"/>
                <a:ext cx="228600" cy="378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14760" y="6438240"/>
                <a:ext cx="191520" cy="3938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35080" y="6438240"/>
                <a:ext cx="221040" cy="44424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63720" y="6472080"/>
                <a:ext cx="355680" cy="39312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6406560" y="6529320"/>
                <a:ext cx="270000" cy="278640"/>
                <a:chOff x="6406560" y="6529320"/>
                <a:chExt cx="270000" cy="2786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6406560" y="6529320"/>
                  <a:ext cx="270000" cy="27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6432480" y="6558840"/>
                  <a:ext cx="216360" cy="21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465600" y="6580080"/>
                  <a:ext cx="148320" cy="17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498000" y="6613560"/>
                  <a:ext cx="86760" cy="9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55D1-C6AB-4BDB-8E2F-CA346ADF34C5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5689440"/>
            <a:ext cx="6854760" cy="3454200"/>
            <a:chOff x="3240" y="5689440"/>
            <a:chExt cx="6854760" cy="3454200"/>
          </a:xfrm>
        </p:grpSpPr>
        <p:sp>
          <p:nvSpPr>
            <p:cNvPr id="107" name=""/>
            <p:cNvSpPr/>
            <p:nvPr/>
          </p:nvSpPr>
          <p:spPr>
            <a:xfrm>
              <a:off x="3240" y="5689440"/>
              <a:ext cx="6854760" cy="345420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200840" y="7863120"/>
              <a:ext cx="942120" cy="1101960"/>
              <a:chOff x="4200840" y="7863120"/>
              <a:chExt cx="942120" cy="1101960"/>
            </a:xfrm>
          </p:grpSpPr>
          <p:sp>
            <p:nvSpPr>
              <p:cNvPr id="109" name=""/>
              <p:cNvSpPr/>
              <p:nvPr/>
            </p:nvSpPr>
            <p:spPr>
              <a:xfrm>
                <a:off x="4389840" y="8064000"/>
                <a:ext cx="632880" cy="691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37720" y="8127360"/>
                <a:ext cx="537480" cy="5817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504320" y="8195040"/>
                <a:ext cx="409320" cy="437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51840" y="8245800"/>
                <a:ext cx="311400" cy="33624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592160" y="8300880"/>
                <a:ext cx="228240" cy="22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57720" y="7863120"/>
                <a:ext cx="455760" cy="3405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00640" y="8825760"/>
                <a:ext cx="528120" cy="13932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00840" y="8267040"/>
                <a:ext cx="105840" cy="4572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50520" y="7926120"/>
                <a:ext cx="892440" cy="9752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07440" y="7875720"/>
                <a:ext cx="114120" cy="630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56600" y="8356320"/>
                <a:ext cx="99720" cy="1116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115000" y="7685640"/>
              <a:ext cx="1935000" cy="1445040"/>
              <a:chOff x="2115000" y="7685640"/>
              <a:chExt cx="1935000" cy="1445040"/>
            </a:xfrm>
          </p:grpSpPr>
          <p:sp>
            <p:nvSpPr>
              <p:cNvPr id="121" name=""/>
              <p:cNvSpPr/>
              <p:nvPr/>
            </p:nvSpPr>
            <p:spPr>
              <a:xfrm>
                <a:off x="2700360" y="8326440"/>
                <a:ext cx="759600" cy="797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755080" y="8377560"/>
                <a:ext cx="646200" cy="7023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87120" y="8421480"/>
                <a:ext cx="596160" cy="63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19520" y="8460000"/>
                <a:ext cx="528480" cy="54540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9680" y="8476560"/>
                <a:ext cx="491400" cy="5076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1240" y="8521200"/>
                <a:ext cx="364320" cy="4057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47680" y="8584560"/>
                <a:ext cx="270000" cy="2854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26520" y="8671680"/>
                <a:ext cx="106560" cy="1263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77640" y="8089560"/>
                <a:ext cx="534240" cy="39312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50600" y="8152920"/>
                <a:ext cx="1061640" cy="97776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78960" y="8101800"/>
                <a:ext cx="484200" cy="10285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56440" y="8559360"/>
                <a:ext cx="128160" cy="53280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62400" y="7799760"/>
                <a:ext cx="993600" cy="3171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23000" y="8155080"/>
                <a:ext cx="203400" cy="97524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13240" y="7939440"/>
                <a:ext cx="428400" cy="119124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60120" y="7685640"/>
                <a:ext cx="1282680" cy="89892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33720" y="8635680"/>
                <a:ext cx="116280" cy="49500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115000" y="7774200"/>
                <a:ext cx="572400" cy="135648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915080" y="7111800"/>
              <a:ext cx="1608480" cy="1737000"/>
              <a:chOff x="4915080" y="7111800"/>
              <a:chExt cx="1608480" cy="1737000"/>
            </a:xfrm>
          </p:grpSpPr>
          <p:sp>
            <p:nvSpPr>
              <p:cNvPr id="140" name=""/>
              <p:cNvSpPr/>
              <p:nvPr/>
            </p:nvSpPr>
            <p:spPr>
              <a:xfrm>
                <a:off x="5000760" y="7200360"/>
                <a:ext cx="1429560" cy="15465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15080" y="7124040"/>
                <a:ext cx="647640" cy="155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05280" y="7111800"/>
                <a:ext cx="725040" cy="5331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246000" y="8480880"/>
                <a:ext cx="85680" cy="1141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364000" y="8620560"/>
                <a:ext cx="839160" cy="2282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353280" y="7733520"/>
                <a:ext cx="170280" cy="72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26040" y="7670160"/>
                <a:ext cx="98640" cy="19044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92360" y="7517520"/>
                <a:ext cx="853560" cy="91224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178240" y="7428960"/>
                <a:ext cx="1081800" cy="112824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34200" y="7390800"/>
                <a:ext cx="434520" cy="13932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13960" y="7530480"/>
                <a:ext cx="78480" cy="1011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12600" y="7636320"/>
                <a:ext cx="616320" cy="67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450760" y="7682760"/>
                <a:ext cx="530640" cy="573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488920" y="7724880"/>
                <a:ext cx="459360" cy="493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41120" y="7784280"/>
                <a:ext cx="354600" cy="37404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84320" y="7826760"/>
                <a:ext cx="264240" cy="294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41200" y="7890120"/>
                <a:ext cx="149760" cy="1717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286320" y="6400440"/>
              <a:ext cx="505440" cy="545760"/>
              <a:chOff x="6286320" y="6400440"/>
              <a:chExt cx="505440" cy="545760"/>
            </a:xfrm>
          </p:grpSpPr>
          <p:sp>
            <p:nvSpPr>
              <p:cNvPr id="158" name=""/>
              <p:cNvSpPr/>
              <p:nvPr/>
            </p:nvSpPr>
            <p:spPr>
              <a:xfrm>
                <a:off x="6286320" y="6742800"/>
                <a:ext cx="455760" cy="20340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328080" y="6400440"/>
                <a:ext cx="306720" cy="1141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20840" y="6489000"/>
                <a:ext cx="70920" cy="32976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99360" y="6869880"/>
                <a:ext cx="228600" cy="378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314760" y="6438240"/>
                <a:ext cx="191520" cy="3938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35080" y="6438240"/>
                <a:ext cx="221040" cy="44424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363720" y="6472080"/>
                <a:ext cx="355680" cy="39312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6406560" y="6529320"/>
                <a:ext cx="270000" cy="278640"/>
                <a:chOff x="6406560" y="6529320"/>
                <a:chExt cx="270000" cy="278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06560" y="6529320"/>
                  <a:ext cx="270000" cy="27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432480" y="6558840"/>
                  <a:ext cx="216360" cy="21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465600" y="6580080"/>
                  <a:ext cx="148320" cy="17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498000" y="6613560"/>
                  <a:ext cx="86760" cy="9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4440" y="2255760"/>
            <a:ext cx="58291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99E1-8D55-45D7-95D5-5A7A108A405F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14440" y="2255760"/>
            <a:ext cx="58291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3 NC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chievement Standard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ext Book Reference: Chapters 9,10 &amp;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3FB4-AD84-4E88-8C19-164AFBAF25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ixed at each end so nodes at each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Fundamental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s the simplest standing wave that can be form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33360" y="4859280"/>
            <a:ext cx="6129360" cy="3600360"/>
            <a:chOff x="333360" y="4859280"/>
            <a:chExt cx="6129360" cy="3600360"/>
          </a:xfrm>
        </p:grpSpPr>
        <p:sp>
          <p:nvSpPr>
            <p:cNvPr id="255" name=""/>
            <p:cNvSpPr/>
            <p:nvPr/>
          </p:nvSpPr>
          <p:spPr>
            <a:xfrm>
              <a:off x="333360" y="4859280"/>
              <a:ext cx="6129360" cy="3600360"/>
            </a:xfrm>
            <a:prstGeom prst="rect">
              <a:avLst/>
            </a:prstGeom>
            <a:solidFill>
              <a:srgbClr val="f2f4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11160" y="6804000"/>
              <a:ext cx="504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07920" y="5435640"/>
              <a:ext cx="4969080" cy="136836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907920" y="6803280"/>
              <a:ext cx="4969080" cy="136836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29000" y="5435640"/>
              <a:ext cx="0" cy="27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21000" y="5724360"/>
              <a:ext cx="0" cy="20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65720" y="579600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2280" y="6300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34080" y="6227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84640" y="5003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6C4-558C-4E16-9964-85CBCD84FE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03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wavelength of the fundamental wave is twice the length of the string. ie. 2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frequency of the fundamental can be worked out using the wave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700280" y="5737320"/>
                <a:ext cx="300996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5B2-6F7F-48CA-B9B3-ECB16C4270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next simplest standing wave has a wavelength equal to the length of the st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5000" y="3995640"/>
            <a:ext cx="5338800" cy="2734560"/>
            <a:chOff x="765000" y="3995640"/>
            <a:chExt cx="5338800" cy="2734560"/>
          </a:xfrm>
        </p:grpSpPr>
        <p:sp>
          <p:nvSpPr>
            <p:cNvPr id="271" name=""/>
            <p:cNvSpPr/>
            <p:nvPr/>
          </p:nvSpPr>
          <p:spPr>
            <a:xfrm>
              <a:off x="920520" y="5763960"/>
              <a:ext cx="2608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9360" y="4783680"/>
              <a:ext cx="2566800" cy="96696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918720" y="5763240"/>
              <a:ext cx="2567160" cy="96660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22280" y="4797000"/>
              <a:ext cx="0" cy="19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99920" y="5001120"/>
              <a:ext cx="0" cy="147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04680" y="5051520"/>
              <a:ext cx="0" cy="147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5000" y="488196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85720" y="46839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61720" y="3995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31880" y="5763960"/>
              <a:ext cx="2608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30440" y="4797000"/>
              <a:ext cx="2566800" cy="96660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430440" y="5763240"/>
              <a:ext cx="2566800" cy="96660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33640" y="4797000"/>
              <a:ext cx="0" cy="19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11280" y="5001120"/>
              <a:ext cx="0" cy="147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16400" y="5051520"/>
              <a:ext cx="0" cy="147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06800" y="4979520"/>
              <a:ext cx="29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09720" y="4093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964-DF0B-42BD-8DD1-095CF3AAAF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25464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frequency will be twice the fundamental frequency. This is called 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econd harmonic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first over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197000" y="4211640"/>
                <a:ext cx="4392720" cy="376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CE9-9C79-4FDA-B5C6-9CA1396A73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57499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pattern continu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0" y="2268360"/>
            <a:ext cx="6453000" cy="2735280"/>
            <a:chOff x="0" y="2268360"/>
            <a:chExt cx="6453000" cy="2735280"/>
          </a:xfrm>
        </p:grpSpPr>
        <p:grpSp>
          <p:nvGrpSpPr>
            <p:cNvPr id="294" name=""/>
            <p:cNvGrpSpPr/>
            <p:nvPr/>
          </p:nvGrpSpPr>
          <p:grpSpPr>
            <a:xfrm>
              <a:off x="0" y="2268360"/>
              <a:ext cx="2256480" cy="2735280"/>
              <a:chOff x="0" y="2268360"/>
              <a:chExt cx="2256480" cy="2735280"/>
            </a:xfrm>
          </p:grpSpPr>
          <p:sp>
            <p:nvSpPr>
              <p:cNvPr id="295" name=""/>
              <p:cNvSpPr/>
              <p:nvPr/>
            </p:nvSpPr>
            <p:spPr>
              <a:xfrm>
                <a:off x="127080" y="4037040"/>
                <a:ext cx="2129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8080" y="3057480"/>
                <a:ext cx="2095560" cy="966600"/>
              </a:xfrm>
              <a:custGeom>
                <a:avLst/>
                <a:gdLst/>
                <a:ahLst/>
                <a:rect l="l" t="t" r="r" b="b"/>
                <a:pathLst>
                  <a:path w="3130" h="862">
                    <a:moveTo>
                      <a:pt x="0" y="862"/>
                    </a:moveTo>
                    <a:cubicBezTo>
                      <a:pt x="533" y="431"/>
                      <a:pt x="1066" y="0"/>
                      <a:pt x="1588" y="0"/>
                    </a:cubicBezTo>
                    <a:cubicBezTo>
                      <a:pt x="2110" y="0"/>
                      <a:pt x="2873" y="718"/>
                      <a:pt x="3130" y="8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125640" y="4036320"/>
                <a:ext cx="2095920" cy="966600"/>
              </a:xfrm>
              <a:custGeom>
                <a:avLst/>
                <a:gdLst/>
                <a:ahLst/>
                <a:rect l="l" t="t" r="r" b="b"/>
                <a:pathLst>
                  <a:path w="3130" h="862">
                    <a:moveTo>
                      <a:pt x="0" y="862"/>
                    </a:moveTo>
                    <a:cubicBezTo>
                      <a:pt x="533" y="431"/>
                      <a:pt x="1066" y="0"/>
                      <a:pt x="1588" y="0"/>
                    </a:cubicBezTo>
                    <a:cubicBezTo>
                      <a:pt x="2110" y="0"/>
                      <a:pt x="2873" y="718"/>
                      <a:pt x="3130" y="8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190160" y="3070080"/>
                <a:ext cx="0" cy="19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63560" y="3274920"/>
                <a:ext cx="0" cy="14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584000" y="3324240"/>
                <a:ext cx="0" cy="147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3154320"/>
                <a:ext cx="35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058760" y="2268360"/>
                <a:ext cx="35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211480" y="3060720"/>
              <a:ext cx="2182680" cy="1933560"/>
              <a:chOff x="2211480" y="3060720"/>
              <a:chExt cx="2182680" cy="1933560"/>
            </a:xfrm>
          </p:grpSpPr>
          <p:sp>
            <p:nvSpPr>
              <p:cNvPr id="304" name=""/>
              <p:cNvSpPr/>
              <p:nvPr/>
            </p:nvSpPr>
            <p:spPr>
              <a:xfrm>
                <a:off x="2212920" y="4027680"/>
                <a:ext cx="21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211480" y="3060720"/>
                <a:ext cx="2096280" cy="966960"/>
              </a:xfrm>
              <a:custGeom>
                <a:avLst/>
                <a:gdLst/>
                <a:ahLst/>
                <a:rect l="l" t="t" r="r" b="b"/>
                <a:pathLst>
                  <a:path w="3130" h="862">
                    <a:moveTo>
                      <a:pt x="0" y="862"/>
                    </a:moveTo>
                    <a:cubicBezTo>
                      <a:pt x="533" y="431"/>
                      <a:pt x="1066" y="0"/>
                      <a:pt x="1588" y="0"/>
                    </a:cubicBezTo>
                    <a:cubicBezTo>
                      <a:pt x="2110" y="0"/>
                      <a:pt x="2873" y="718"/>
                      <a:pt x="3130" y="8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211480" y="4026960"/>
                <a:ext cx="2096280" cy="966600"/>
              </a:xfrm>
              <a:custGeom>
                <a:avLst/>
                <a:gdLst/>
                <a:ahLst/>
                <a:rect l="l" t="t" r="r" b="b"/>
                <a:pathLst>
                  <a:path w="3130" h="862">
                    <a:moveTo>
                      <a:pt x="0" y="862"/>
                    </a:moveTo>
                    <a:cubicBezTo>
                      <a:pt x="533" y="431"/>
                      <a:pt x="1066" y="0"/>
                      <a:pt x="1588" y="0"/>
                    </a:cubicBezTo>
                    <a:cubicBezTo>
                      <a:pt x="2110" y="0"/>
                      <a:pt x="2873" y="718"/>
                      <a:pt x="3130" y="8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5640" y="3060720"/>
                <a:ext cx="0" cy="19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49400" y="3265560"/>
                <a:ext cx="0" cy="14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669840" y="3314880"/>
                <a:ext cx="0" cy="147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152240" y="3243240"/>
                <a:ext cx="241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270320" y="3060720"/>
              <a:ext cx="2182680" cy="1933560"/>
              <a:chOff x="4270320" y="3060720"/>
              <a:chExt cx="2182680" cy="1933560"/>
            </a:xfrm>
          </p:grpSpPr>
          <p:sp>
            <p:nvSpPr>
              <p:cNvPr id="312" name=""/>
              <p:cNvSpPr/>
              <p:nvPr/>
            </p:nvSpPr>
            <p:spPr>
              <a:xfrm>
                <a:off x="4271760" y="4027680"/>
                <a:ext cx="21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270320" y="3060720"/>
                <a:ext cx="2096280" cy="966960"/>
              </a:xfrm>
              <a:custGeom>
                <a:avLst/>
                <a:gdLst/>
                <a:ahLst/>
                <a:rect l="l" t="t" r="r" b="b"/>
                <a:pathLst>
                  <a:path w="3130" h="862">
                    <a:moveTo>
                      <a:pt x="0" y="862"/>
                    </a:moveTo>
                    <a:cubicBezTo>
                      <a:pt x="533" y="431"/>
                      <a:pt x="1066" y="0"/>
                      <a:pt x="1588" y="0"/>
                    </a:cubicBezTo>
                    <a:cubicBezTo>
                      <a:pt x="2110" y="0"/>
                      <a:pt x="2873" y="718"/>
                      <a:pt x="3130" y="8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4270320" y="4026960"/>
                <a:ext cx="2096280" cy="966600"/>
              </a:xfrm>
              <a:custGeom>
                <a:avLst/>
                <a:gdLst/>
                <a:ahLst/>
                <a:rect l="l" t="t" r="r" b="b"/>
                <a:pathLst>
                  <a:path w="3130" h="862">
                    <a:moveTo>
                      <a:pt x="0" y="862"/>
                    </a:moveTo>
                    <a:cubicBezTo>
                      <a:pt x="533" y="431"/>
                      <a:pt x="1066" y="0"/>
                      <a:pt x="1588" y="0"/>
                    </a:cubicBezTo>
                    <a:cubicBezTo>
                      <a:pt x="2110" y="0"/>
                      <a:pt x="2873" y="718"/>
                      <a:pt x="3130" y="8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334480" y="3060720"/>
                <a:ext cx="0" cy="19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908240" y="3265560"/>
                <a:ext cx="0" cy="14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728680" y="3314880"/>
                <a:ext cx="0" cy="147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11080" y="3243240"/>
                <a:ext cx="241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773360" y="5292720"/>
                <a:ext cx="2930400" cy="33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L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3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199-5B93-4A64-BC81-7511172AAC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098960" y="1908000"/>
            <a:ext cx="24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7520" y="1908000"/>
            <a:ext cx="24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20640" y="2124000"/>
            <a:ext cx="5813640" cy="1946160"/>
            <a:chOff x="620640" y="2124000"/>
            <a:chExt cx="5813640" cy="1946160"/>
          </a:xfrm>
        </p:grpSpPr>
        <p:sp>
          <p:nvSpPr>
            <p:cNvPr id="324" name=""/>
            <p:cNvSpPr/>
            <p:nvPr/>
          </p:nvSpPr>
          <p:spPr>
            <a:xfrm>
              <a:off x="3508560" y="3103560"/>
              <a:ext cx="1490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02080" y="2124000"/>
              <a:ext cx="1466640" cy="96696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506760" y="3102840"/>
              <a:ext cx="1468440" cy="96660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53040" y="2136600"/>
              <a:ext cx="0" cy="19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54600" y="2341440"/>
              <a:ext cx="0" cy="14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27720" y="2390760"/>
              <a:ext cx="0" cy="14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43520" y="3103560"/>
              <a:ext cx="149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43520" y="2136600"/>
              <a:ext cx="1466640" cy="96696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943520" y="3102840"/>
              <a:ext cx="1466640" cy="96660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88000" y="2136600"/>
              <a:ext cx="0" cy="19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89560" y="2341440"/>
              <a:ext cx="0" cy="14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64120" y="2390760"/>
              <a:ext cx="0" cy="14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7120" y="3103560"/>
              <a:ext cx="149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2124000"/>
              <a:ext cx="1467000" cy="96696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25320" y="3102840"/>
              <a:ext cx="1468440" cy="96660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71600" y="2136600"/>
              <a:ext cx="0" cy="19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73160" y="2341440"/>
              <a:ext cx="0" cy="14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46280" y="2390760"/>
              <a:ext cx="0" cy="14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2080" y="3103560"/>
              <a:ext cx="149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62080" y="2136600"/>
              <a:ext cx="1467000" cy="96696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062080" y="3102840"/>
              <a:ext cx="1467000" cy="96660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06560" y="2136600"/>
              <a:ext cx="0" cy="19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08120" y="2341440"/>
              <a:ext cx="0" cy="14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83040" y="2390760"/>
              <a:ext cx="0" cy="14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413000" y="4427640"/>
                <a:ext cx="355572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282-06FB-448F-BA5E-44BAC8DF33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7440" y="-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6172200" cy="68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re are a number of ways the frequency of a string can be alt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hanging the length. Shorter string = shorter wavelength = higher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hanging the tension force in the string. Tighter string = faster wave speed = higher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hanging the mass per unit length of the string. Heavier string = slower wave speed = lower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95240" y="8636040"/>
            <a:ext cx="50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Page 175 Questions 1b,9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9C2-611C-4597-B637-1EACDED11E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P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611028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pen both ends so antinodes at both 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30080" y="3916440"/>
            <a:ext cx="5759640" cy="1944360"/>
            <a:chOff x="730080" y="3916440"/>
            <a:chExt cx="5759640" cy="1944360"/>
          </a:xfrm>
        </p:grpSpPr>
        <p:grpSp>
          <p:nvGrpSpPr>
            <p:cNvPr id="355" name=""/>
            <p:cNvGrpSpPr/>
            <p:nvPr/>
          </p:nvGrpSpPr>
          <p:grpSpPr>
            <a:xfrm>
              <a:off x="801720" y="3916440"/>
              <a:ext cx="5255640" cy="1944360"/>
              <a:chOff x="801720" y="3916440"/>
              <a:chExt cx="5255640" cy="1944360"/>
            </a:xfrm>
          </p:grpSpPr>
          <p:sp>
            <p:nvSpPr>
              <p:cNvPr id="356" name=""/>
              <p:cNvSpPr/>
              <p:nvPr/>
            </p:nvSpPr>
            <p:spPr>
              <a:xfrm>
                <a:off x="1000440" y="3916440"/>
                <a:ext cx="247932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3378600" y="3916440"/>
                <a:ext cx="247932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3378600" y="4852800"/>
                <a:ext cx="247932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000440" y="4852800"/>
                <a:ext cx="247932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99640" y="3916440"/>
                <a:ext cx="515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01720" y="5860800"/>
                <a:ext cx="5157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730080" y="4637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9720" y="514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15160" y="463716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637000" y="6300720"/>
                <a:ext cx="171432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BF6-952F-4231-B1C0-01FF170276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P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25360" y="4216320"/>
                <a:ext cx="12956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284640" y="4113360"/>
                <a:ext cx="24494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907920" y="7667640"/>
                <a:ext cx="1225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0" name=""/>
          <p:cNvGrpSpPr/>
          <p:nvPr/>
        </p:nvGrpSpPr>
        <p:grpSpPr>
          <a:xfrm>
            <a:off x="765000" y="2050920"/>
            <a:ext cx="5400000" cy="1944360"/>
            <a:chOff x="765000" y="2050920"/>
            <a:chExt cx="5400000" cy="1944360"/>
          </a:xfrm>
        </p:grpSpPr>
        <p:grpSp>
          <p:nvGrpSpPr>
            <p:cNvPr id="371" name=""/>
            <p:cNvGrpSpPr/>
            <p:nvPr/>
          </p:nvGrpSpPr>
          <p:grpSpPr>
            <a:xfrm>
              <a:off x="765000" y="2050920"/>
              <a:ext cx="2904480" cy="1944360"/>
              <a:chOff x="765000" y="2050920"/>
              <a:chExt cx="2904480" cy="194436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801000" y="2050920"/>
                <a:ext cx="2650680" cy="1944360"/>
                <a:chOff x="801000" y="2050920"/>
                <a:chExt cx="2650680" cy="194436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901080" y="2050920"/>
                  <a:ext cx="125064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2100960" y="2050920"/>
                  <a:ext cx="125064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flipV="1">
                  <a:off x="2100960" y="2987280"/>
                  <a:ext cx="125064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901080" y="2987280"/>
                  <a:ext cx="125064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50320" y="2050920"/>
                  <a:ext cx="2601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801000" y="3995280"/>
                  <a:ext cx="2601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765000" y="2771640"/>
                <a:ext cx="39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035800" y="327456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380040" y="2771640"/>
                <a:ext cx="28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3260880" y="2050920"/>
              <a:ext cx="2904120" cy="1944360"/>
              <a:chOff x="3260880" y="2050920"/>
              <a:chExt cx="2904120" cy="19443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3296880" y="2050920"/>
                <a:ext cx="2650320" cy="1944360"/>
                <a:chOff x="3296880" y="2050920"/>
                <a:chExt cx="2650320" cy="19443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396960" y="2050920"/>
                  <a:ext cx="125028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4596120" y="2050920"/>
                  <a:ext cx="125028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flipV="1">
                  <a:off x="4596120" y="2987280"/>
                  <a:ext cx="125028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3396960" y="2987280"/>
                  <a:ext cx="125028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346200" y="2050920"/>
                  <a:ext cx="2601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296880" y="3995280"/>
                  <a:ext cx="2601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3260880" y="2771640"/>
                <a:ext cx="39924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531320" y="3274560"/>
                <a:ext cx="29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75560" y="2771640"/>
                <a:ext cx="28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836640" y="5580000"/>
            <a:ext cx="5440320" cy="1944360"/>
            <a:chOff x="836640" y="5580000"/>
            <a:chExt cx="5440320" cy="1944360"/>
          </a:xfrm>
        </p:grpSpPr>
        <p:grpSp>
          <p:nvGrpSpPr>
            <p:cNvPr id="394" name=""/>
            <p:cNvGrpSpPr/>
            <p:nvPr/>
          </p:nvGrpSpPr>
          <p:grpSpPr>
            <a:xfrm>
              <a:off x="860400" y="5580000"/>
              <a:ext cx="1783800" cy="1944360"/>
              <a:chOff x="860400" y="5580000"/>
              <a:chExt cx="1783800" cy="1944360"/>
            </a:xfrm>
          </p:grpSpPr>
          <p:sp>
            <p:nvSpPr>
              <p:cNvPr id="395" name=""/>
              <p:cNvSpPr/>
              <p:nvPr/>
            </p:nvSpPr>
            <p:spPr>
              <a:xfrm>
                <a:off x="927720" y="5580000"/>
                <a:ext cx="84168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1735200" y="5580000"/>
                <a:ext cx="84168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flipV="1">
                <a:off x="1735200" y="6516360"/>
                <a:ext cx="84168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927720" y="6516360"/>
                <a:ext cx="84168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93520" y="5580000"/>
                <a:ext cx="1750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60400" y="7524360"/>
                <a:ext cx="1750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836640" y="6300720"/>
              <a:ext cx="26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8640" y="6804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5600" y="6300720"/>
              <a:ext cx="1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316400" y="5580000"/>
              <a:ext cx="1848960" cy="1944360"/>
              <a:chOff x="4316400" y="5580000"/>
              <a:chExt cx="1848960" cy="1944360"/>
            </a:xfrm>
          </p:grpSpPr>
          <p:sp>
            <p:nvSpPr>
              <p:cNvPr id="405" name=""/>
              <p:cNvSpPr/>
              <p:nvPr/>
            </p:nvSpPr>
            <p:spPr>
              <a:xfrm>
                <a:off x="4386240" y="5580000"/>
                <a:ext cx="87228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222520" y="5580000"/>
                <a:ext cx="87228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5222520" y="6516360"/>
                <a:ext cx="87228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4386240" y="6516360"/>
                <a:ext cx="87228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350600" y="5580000"/>
                <a:ext cx="181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316400" y="7524360"/>
                <a:ext cx="181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4149720" y="6299280"/>
              <a:ext cx="309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46560" y="6804000"/>
              <a:ext cx="2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51600" y="6300720"/>
              <a:ext cx="22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2571480" y="5580000"/>
              <a:ext cx="1954440" cy="1944360"/>
              <a:chOff x="2571480" y="5580000"/>
              <a:chExt cx="1954440" cy="194436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2595600" y="5580000"/>
                <a:ext cx="1783440" cy="1944360"/>
                <a:chOff x="2595600" y="5580000"/>
                <a:chExt cx="1783440" cy="194436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662920" y="5580000"/>
                  <a:ext cx="84132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3469680" y="5580000"/>
                  <a:ext cx="84132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 flipV="1">
                  <a:off x="3469680" y="6516360"/>
                  <a:ext cx="84132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2662920" y="6516360"/>
                  <a:ext cx="84132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628720" y="5580000"/>
                  <a:ext cx="1750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595600" y="7524360"/>
                  <a:ext cx="1750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2571480" y="6300720"/>
                <a:ext cx="2685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26480" y="6803640"/>
                <a:ext cx="19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331160" y="6300720"/>
                <a:ext cx="19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852640" y="7539120"/>
                <a:ext cx="36007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3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81A-8BD2-4328-AE71-672A8B3C58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P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582264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ne end open and one end closed so antinode at open end and node at closed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ndament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71400" y="7053120"/>
                <a:ext cx="252108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9" name=""/>
          <p:cNvGrpSpPr/>
          <p:nvPr/>
        </p:nvGrpSpPr>
        <p:grpSpPr>
          <a:xfrm>
            <a:off x="819000" y="4595760"/>
            <a:ext cx="5113440" cy="2016000"/>
            <a:chOff x="819000" y="4595760"/>
            <a:chExt cx="5113440" cy="2016000"/>
          </a:xfrm>
        </p:grpSpPr>
        <p:grpSp>
          <p:nvGrpSpPr>
            <p:cNvPr id="430" name=""/>
            <p:cNvGrpSpPr/>
            <p:nvPr/>
          </p:nvGrpSpPr>
          <p:grpSpPr>
            <a:xfrm>
              <a:off x="819000" y="4595760"/>
              <a:ext cx="4752720" cy="2016000"/>
              <a:chOff x="819000" y="4595760"/>
              <a:chExt cx="4752720" cy="2016000"/>
            </a:xfrm>
          </p:grpSpPr>
          <p:sp>
            <p:nvSpPr>
              <p:cNvPr id="431" name=""/>
              <p:cNvSpPr/>
              <p:nvPr/>
            </p:nvSpPr>
            <p:spPr>
              <a:xfrm>
                <a:off x="819000" y="4595760"/>
                <a:ext cx="4405680" cy="100800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19000" y="4595760"/>
                <a:ext cx="0" cy="20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819000" y="5603760"/>
                <a:ext cx="4405680" cy="100800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19000" y="4595760"/>
                <a:ext cx="475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9000" y="6611760"/>
                <a:ext cx="475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84800" y="5444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6440" y="5444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573360" y="6392880"/>
                <a:ext cx="265428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818-98F3-4233-9411-257985D54D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ves are a method of transferring energy from one place to another without moving an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can be transverse or longitu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veryday examples include: water, light, sound, seism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643-48AC-4E85-A198-3F69DAC116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P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60000" y="6873480"/>
            <a:ext cx="6172200" cy="16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te that the second harmonic does not exist. The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overtone is the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thir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harm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-360" y="4146480"/>
            <a:ext cx="3009960" cy="2006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793880" y="3843360"/>
                <a:ext cx="162576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262080" y="2106360"/>
            <a:ext cx="5884200" cy="1595160"/>
            <a:chOff x="262080" y="2106360"/>
            <a:chExt cx="5884200" cy="1595160"/>
          </a:xfrm>
        </p:grpSpPr>
        <p:sp>
          <p:nvSpPr>
            <p:cNvPr id="444" name=""/>
            <p:cNvSpPr/>
            <p:nvPr/>
          </p:nvSpPr>
          <p:spPr>
            <a:xfrm>
              <a:off x="262080" y="2107800"/>
              <a:ext cx="2025360" cy="789480"/>
            </a:xfrm>
            <a:custGeom>
              <a:avLst/>
              <a:gdLst/>
              <a:ahLst/>
              <a:rect l="l" t="t" r="r" b="b"/>
              <a:pathLst>
                <a:path w="1724" h="1043">
                  <a:moveTo>
                    <a:pt x="0" y="1043"/>
                  </a:moveTo>
                  <a:cubicBezTo>
                    <a:pt x="219" y="722"/>
                    <a:pt x="439" y="401"/>
                    <a:pt x="726" y="227"/>
                  </a:cubicBezTo>
                  <a:cubicBezTo>
                    <a:pt x="1013" y="53"/>
                    <a:pt x="1558" y="38"/>
                    <a:pt x="17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2080" y="2107800"/>
              <a:ext cx="0" cy="157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62080" y="2896560"/>
              <a:ext cx="2025360" cy="789480"/>
            </a:xfrm>
            <a:custGeom>
              <a:avLst/>
              <a:gdLst/>
              <a:ahLst/>
              <a:rect l="l" t="t" r="r" b="b"/>
              <a:pathLst>
                <a:path w="1724" h="1043">
                  <a:moveTo>
                    <a:pt x="0" y="1043"/>
                  </a:moveTo>
                  <a:cubicBezTo>
                    <a:pt x="219" y="722"/>
                    <a:pt x="439" y="401"/>
                    <a:pt x="726" y="227"/>
                  </a:cubicBezTo>
                  <a:cubicBezTo>
                    <a:pt x="1013" y="53"/>
                    <a:pt x="1558" y="38"/>
                    <a:pt x="17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62080" y="2106360"/>
              <a:ext cx="5789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2080" y="3686760"/>
              <a:ext cx="579096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09960" y="2759400"/>
              <a:ext cx="2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2520" y="2772720"/>
              <a:ext cx="23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2007720" y="2107800"/>
              <a:ext cx="2025360" cy="789480"/>
            </a:xfrm>
            <a:custGeom>
              <a:avLst/>
              <a:gdLst/>
              <a:ahLst/>
              <a:rect l="l" t="t" r="r" b="b"/>
              <a:pathLst>
                <a:path w="1724" h="1043">
                  <a:moveTo>
                    <a:pt x="0" y="1043"/>
                  </a:moveTo>
                  <a:cubicBezTo>
                    <a:pt x="219" y="722"/>
                    <a:pt x="439" y="401"/>
                    <a:pt x="726" y="227"/>
                  </a:cubicBezTo>
                  <a:cubicBezTo>
                    <a:pt x="1013" y="53"/>
                    <a:pt x="1558" y="38"/>
                    <a:pt x="17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2007720" y="2896560"/>
              <a:ext cx="2025360" cy="789480"/>
            </a:xfrm>
            <a:custGeom>
              <a:avLst/>
              <a:gdLst/>
              <a:ahLst/>
              <a:rect l="l" t="t" r="r" b="b"/>
              <a:pathLst>
                <a:path w="1724" h="1043">
                  <a:moveTo>
                    <a:pt x="0" y="1043"/>
                  </a:moveTo>
                  <a:cubicBezTo>
                    <a:pt x="219" y="722"/>
                    <a:pt x="439" y="401"/>
                    <a:pt x="726" y="227"/>
                  </a:cubicBezTo>
                  <a:cubicBezTo>
                    <a:pt x="1013" y="53"/>
                    <a:pt x="1558" y="38"/>
                    <a:pt x="17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2440" y="2107800"/>
              <a:ext cx="2025360" cy="789480"/>
            </a:xfrm>
            <a:custGeom>
              <a:avLst/>
              <a:gdLst/>
              <a:ahLst/>
              <a:rect l="l" t="t" r="r" b="b"/>
              <a:pathLst>
                <a:path w="1724" h="1043">
                  <a:moveTo>
                    <a:pt x="0" y="1043"/>
                  </a:moveTo>
                  <a:cubicBezTo>
                    <a:pt x="219" y="722"/>
                    <a:pt x="439" y="401"/>
                    <a:pt x="726" y="227"/>
                  </a:cubicBezTo>
                  <a:cubicBezTo>
                    <a:pt x="1013" y="53"/>
                    <a:pt x="1558" y="38"/>
                    <a:pt x="17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042440" y="2900880"/>
              <a:ext cx="2025360" cy="789840"/>
            </a:xfrm>
            <a:custGeom>
              <a:avLst/>
              <a:gdLst/>
              <a:ahLst/>
              <a:rect l="l" t="t" r="r" b="b"/>
              <a:pathLst>
                <a:path w="1724" h="1043">
                  <a:moveTo>
                    <a:pt x="0" y="1043"/>
                  </a:moveTo>
                  <a:cubicBezTo>
                    <a:pt x="219" y="722"/>
                    <a:pt x="439" y="401"/>
                    <a:pt x="726" y="227"/>
                  </a:cubicBezTo>
                  <a:cubicBezTo>
                    <a:pt x="1013" y="53"/>
                    <a:pt x="1558" y="38"/>
                    <a:pt x="17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19920" y="2790360"/>
              <a:ext cx="42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51360" y="276408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746280" y="5108400"/>
                <a:ext cx="422892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3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60A-E851-4AB4-8BD1-9D2A0A903C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P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09320" y="6029280"/>
            <a:ext cx="61722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nly the odd harmonics are present in a closed end p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507960" y="4272120"/>
                <a:ext cx="1863720" cy="14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1" name=""/>
          <p:cNvGrpSpPr/>
          <p:nvPr/>
        </p:nvGrpSpPr>
        <p:grpSpPr>
          <a:xfrm>
            <a:off x="208080" y="2103480"/>
            <a:ext cx="6251400" cy="1617480"/>
            <a:chOff x="208080" y="2103480"/>
            <a:chExt cx="6251400" cy="1617480"/>
          </a:xfrm>
        </p:grpSpPr>
        <p:sp>
          <p:nvSpPr>
            <p:cNvPr id="462" name=""/>
            <p:cNvSpPr/>
            <p:nvPr/>
          </p:nvSpPr>
          <p:spPr>
            <a:xfrm>
              <a:off x="262080" y="2108160"/>
              <a:ext cx="1284120" cy="789120"/>
            </a:xfrm>
            <a:custGeom>
              <a:avLst/>
              <a:gdLst/>
              <a:ahLst/>
              <a:rect l="l" t="t" r="r" b="b"/>
              <a:pathLst>
                <a:path w="1724" h="1043">
                  <a:moveTo>
                    <a:pt x="0" y="1043"/>
                  </a:moveTo>
                  <a:cubicBezTo>
                    <a:pt x="219" y="722"/>
                    <a:pt x="439" y="401"/>
                    <a:pt x="726" y="227"/>
                  </a:cubicBezTo>
                  <a:cubicBezTo>
                    <a:pt x="1013" y="53"/>
                    <a:pt x="1558" y="38"/>
                    <a:pt x="17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2080" y="2108160"/>
              <a:ext cx="0" cy="157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62080" y="2897280"/>
              <a:ext cx="1284120" cy="790560"/>
            </a:xfrm>
            <a:custGeom>
              <a:avLst/>
              <a:gdLst/>
              <a:ahLst/>
              <a:rect l="l" t="t" r="r" b="b"/>
              <a:pathLst>
                <a:path w="1724" h="1043">
                  <a:moveTo>
                    <a:pt x="0" y="1043"/>
                  </a:moveTo>
                  <a:cubicBezTo>
                    <a:pt x="219" y="722"/>
                    <a:pt x="439" y="401"/>
                    <a:pt x="726" y="227"/>
                  </a:cubicBezTo>
                  <a:cubicBezTo>
                    <a:pt x="1013" y="53"/>
                    <a:pt x="1558" y="38"/>
                    <a:pt x="17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62080" y="2106720"/>
              <a:ext cx="6197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62080" y="3719520"/>
              <a:ext cx="6176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33520" y="2759040"/>
              <a:ext cx="57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8080" y="317808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1370160" y="2108160"/>
              <a:ext cx="2576160" cy="1582920"/>
              <a:chOff x="1370160" y="2108160"/>
              <a:chExt cx="2576160" cy="1582920"/>
            </a:xfrm>
          </p:grpSpPr>
          <p:sp>
            <p:nvSpPr>
              <p:cNvPr id="470" name=""/>
              <p:cNvSpPr/>
              <p:nvPr/>
            </p:nvSpPr>
            <p:spPr>
              <a:xfrm flipH="1">
                <a:off x="1370160" y="2108160"/>
                <a:ext cx="1285200" cy="78912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 flipV="1">
                <a:off x="1370160" y="2897280"/>
                <a:ext cx="1285200" cy="79056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660400" y="2108160"/>
                <a:ext cx="1285920" cy="78912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2660400" y="2901960"/>
                <a:ext cx="1285920" cy="78912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2570040" y="321300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45080" y="2763720"/>
              <a:ext cx="2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3805200" y="2103480"/>
              <a:ext cx="2576160" cy="1581840"/>
              <a:chOff x="3805200" y="2103480"/>
              <a:chExt cx="2576160" cy="1581840"/>
            </a:xfrm>
          </p:grpSpPr>
          <p:sp>
            <p:nvSpPr>
              <p:cNvPr id="477" name=""/>
              <p:cNvSpPr/>
              <p:nvPr/>
            </p:nvSpPr>
            <p:spPr>
              <a:xfrm flipH="1">
                <a:off x="3805200" y="2103480"/>
                <a:ext cx="1285200" cy="78876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3805200" y="2891520"/>
                <a:ext cx="1285200" cy="79020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95440" y="2103480"/>
                <a:ext cx="1285920" cy="78876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095440" y="2896200"/>
                <a:ext cx="1285920" cy="78876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4995720" y="323388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299280" y="26082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712960" y="4386240"/>
                <a:ext cx="372132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5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D30-06D3-4AB4-BFD2-AD4B7B0698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400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rin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pen Pi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losed Pi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Where n = odd numbers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843280" y="2664000"/>
                <a:ext cx="3471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3263760" y="4363920"/>
                <a:ext cx="31672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71880" y="6394320"/>
                <a:ext cx="33019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941-7160-40B6-BB77-1CCE18825B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usical Instr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ubling the frequency of a note produces a note one octave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usical instruments do not produce pure tones but rather the fundamental overlaid with a mixture of harmonics. The differences in the mixtures gives each instrument it’s own unique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92200" y="831384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Page 175 Questions 1a,3-8, 10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6E8-CEB3-427B-9EDE-A770D0AE37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eating is a regular pulsing in the volume of a sound caused when two sources produce sounds of slightly different frequ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eat frequency f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-f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usicians can use this effect to tune instruments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49400" y="8211960"/>
            <a:ext cx="46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Page 177 Questions 12,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63E-0214-47D7-B03A-F592450572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Diffraction &amp;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37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raction is the bending of a wave as it passes through a gap or around the edge of a bar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t is most noticeable when the gap is approximately the same size as the wave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27120" y="6129360"/>
            <a:ext cx="5689440" cy="2455920"/>
          </a:xfrm>
          <a:prstGeom prst="rect">
            <a:avLst/>
          </a:prstGeom>
          <a:solidFill>
            <a:srgbClr val="f2f4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70080" y="6265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486080" y="62784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701720" y="62737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17720" y="630396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629928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54400" y="6265800"/>
            <a:ext cx="304560" cy="1049400"/>
          </a:xfrm>
          <a:prstGeom prst="rect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355840" y="7585200"/>
            <a:ext cx="304920" cy="847440"/>
          </a:xfrm>
          <a:prstGeom prst="rect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530-7FBA-4A9A-B118-CEFF05CF33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1A1-421D-4761-AF2E-607DEBE061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v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ves can be shown on a displacement time grap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represents how the displacement of one particle that makes up the wave varies with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33360" y="5219640"/>
            <a:ext cx="6121440" cy="3600360"/>
            <a:chOff x="333360" y="5219640"/>
            <a:chExt cx="6121440" cy="3600360"/>
          </a:xfrm>
        </p:grpSpPr>
        <p:sp>
          <p:nvSpPr>
            <p:cNvPr id="218" name=""/>
            <p:cNvSpPr/>
            <p:nvPr/>
          </p:nvSpPr>
          <p:spPr>
            <a:xfrm>
              <a:off x="333360" y="5219640"/>
              <a:ext cx="6121440" cy="3600360"/>
            </a:xfrm>
            <a:prstGeom prst="rect">
              <a:avLst/>
            </a:prstGeom>
            <a:solidFill>
              <a:srgbClr val="f2f4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09720" y="5795640"/>
              <a:ext cx="0" cy="28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09720" y="723564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09720" y="6070320"/>
              <a:ext cx="1655640" cy="1165320"/>
            </a:xfrm>
            <a:custGeom>
              <a:avLst/>
              <a:gdLst/>
              <a:ahLst/>
              <a:rect l="l" t="t" r="r" b="b"/>
              <a:pathLst>
                <a:path w="1043" h="734">
                  <a:moveTo>
                    <a:pt x="0" y="734"/>
                  </a:moveTo>
                  <a:cubicBezTo>
                    <a:pt x="113" y="522"/>
                    <a:pt x="227" y="311"/>
                    <a:pt x="318" y="190"/>
                  </a:cubicBezTo>
                  <a:cubicBezTo>
                    <a:pt x="409" y="69"/>
                    <a:pt x="469" y="16"/>
                    <a:pt x="544" y="8"/>
                  </a:cubicBezTo>
                  <a:cubicBezTo>
                    <a:pt x="619" y="0"/>
                    <a:pt x="688" y="23"/>
                    <a:pt x="771" y="144"/>
                  </a:cubicBezTo>
                  <a:cubicBezTo>
                    <a:pt x="854" y="265"/>
                    <a:pt x="998" y="636"/>
                    <a:pt x="1043" y="7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565360" y="7234920"/>
              <a:ext cx="1655640" cy="1165320"/>
            </a:xfrm>
            <a:custGeom>
              <a:avLst/>
              <a:gdLst/>
              <a:ahLst/>
              <a:rect l="l" t="t" r="r" b="b"/>
              <a:pathLst>
                <a:path w="1043" h="734">
                  <a:moveTo>
                    <a:pt x="0" y="734"/>
                  </a:moveTo>
                  <a:cubicBezTo>
                    <a:pt x="113" y="522"/>
                    <a:pt x="227" y="311"/>
                    <a:pt x="318" y="190"/>
                  </a:cubicBezTo>
                  <a:cubicBezTo>
                    <a:pt x="409" y="69"/>
                    <a:pt x="469" y="16"/>
                    <a:pt x="544" y="8"/>
                  </a:cubicBezTo>
                  <a:cubicBezTo>
                    <a:pt x="619" y="0"/>
                    <a:pt x="688" y="23"/>
                    <a:pt x="771" y="144"/>
                  </a:cubicBezTo>
                  <a:cubicBezTo>
                    <a:pt x="854" y="265"/>
                    <a:pt x="998" y="636"/>
                    <a:pt x="1043" y="7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22800" y="6083280"/>
              <a:ext cx="1655640" cy="1164960"/>
            </a:xfrm>
            <a:custGeom>
              <a:avLst/>
              <a:gdLst/>
              <a:ahLst/>
              <a:rect l="l" t="t" r="r" b="b"/>
              <a:pathLst>
                <a:path w="1043" h="734">
                  <a:moveTo>
                    <a:pt x="0" y="734"/>
                  </a:moveTo>
                  <a:cubicBezTo>
                    <a:pt x="113" y="522"/>
                    <a:pt x="227" y="311"/>
                    <a:pt x="318" y="190"/>
                  </a:cubicBezTo>
                  <a:cubicBezTo>
                    <a:pt x="409" y="69"/>
                    <a:pt x="469" y="16"/>
                    <a:pt x="544" y="8"/>
                  </a:cubicBezTo>
                  <a:cubicBezTo>
                    <a:pt x="619" y="0"/>
                    <a:pt x="688" y="23"/>
                    <a:pt x="771" y="144"/>
                  </a:cubicBezTo>
                  <a:cubicBezTo>
                    <a:pt x="854" y="265"/>
                    <a:pt x="998" y="636"/>
                    <a:pt x="1043" y="7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7720" y="536400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Displacement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14800" y="752292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485-1E32-4900-B6FB-C406B58BF7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v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61722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ves can also be shown on a displacement-position grap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shows a “snapshot” of the shape of the wave at a given point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33360" y="4788000"/>
            <a:ext cx="6129360" cy="3600360"/>
            <a:chOff x="333360" y="4788000"/>
            <a:chExt cx="6129360" cy="3600360"/>
          </a:xfrm>
        </p:grpSpPr>
        <p:sp>
          <p:nvSpPr>
            <p:cNvPr id="229" name=""/>
            <p:cNvSpPr/>
            <p:nvPr/>
          </p:nvSpPr>
          <p:spPr>
            <a:xfrm>
              <a:off x="333360" y="4788000"/>
              <a:ext cx="6129360" cy="3600360"/>
            </a:xfrm>
            <a:prstGeom prst="rect">
              <a:avLst/>
            </a:prstGeom>
            <a:solidFill>
              <a:srgbClr val="f2f4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17640" y="5364360"/>
              <a:ext cx="0" cy="28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11160" y="6804360"/>
              <a:ext cx="504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15840" y="5639040"/>
              <a:ext cx="1657440" cy="1165320"/>
            </a:xfrm>
            <a:custGeom>
              <a:avLst/>
              <a:gdLst/>
              <a:ahLst/>
              <a:rect l="l" t="t" r="r" b="b"/>
              <a:pathLst>
                <a:path w="1043" h="734">
                  <a:moveTo>
                    <a:pt x="0" y="734"/>
                  </a:moveTo>
                  <a:cubicBezTo>
                    <a:pt x="113" y="522"/>
                    <a:pt x="227" y="311"/>
                    <a:pt x="318" y="190"/>
                  </a:cubicBezTo>
                  <a:cubicBezTo>
                    <a:pt x="409" y="69"/>
                    <a:pt x="469" y="16"/>
                    <a:pt x="544" y="8"/>
                  </a:cubicBezTo>
                  <a:cubicBezTo>
                    <a:pt x="619" y="0"/>
                    <a:pt x="688" y="23"/>
                    <a:pt x="771" y="144"/>
                  </a:cubicBezTo>
                  <a:cubicBezTo>
                    <a:pt x="854" y="265"/>
                    <a:pt x="998" y="636"/>
                    <a:pt x="1043" y="7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571840" y="6804360"/>
              <a:ext cx="1657080" cy="1164960"/>
            </a:xfrm>
            <a:custGeom>
              <a:avLst/>
              <a:gdLst/>
              <a:ahLst/>
              <a:rect l="l" t="t" r="r" b="b"/>
              <a:pathLst>
                <a:path w="1043" h="734">
                  <a:moveTo>
                    <a:pt x="0" y="734"/>
                  </a:moveTo>
                  <a:cubicBezTo>
                    <a:pt x="113" y="522"/>
                    <a:pt x="227" y="311"/>
                    <a:pt x="318" y="190"/>
                  </a:cubicBezTo>
                  <a:cubicBezTo>
                    <a:pt x="409" y="69"/>
                    <a:pt x="469" y="16"/>
                    <a:pt x="544" y="8"/>
                  </a:cubicBezTo>
                  <a:cubicBezTo>
                    <a:pt x="619" y="0"/>
                    <a:pt x="688" y="23"/>
                    <a:pt x="771" y="144"/>
                  </a:cubicBezTo>
                  <a:cubicBezTo>
                    <a:pt x="854" y="265"/>
                    <a:pt x="998" y="636"/>
                    <a:pt x="1043" y="7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28920" y="5651640"/>
              <a:ext cx="1657440" cy="1165320"/>
            </a:xfrm>
            <a:custGeom>
              <a:avLst/>
              <a:gdLst/>
              <a:ahLst/>
              <a:rect l="l" t="t" r="r" b="b"/>
              <a:pathLst>
                <a:path w="1043" h="734">
                  <a:moveTo>
                    <a:pt x="0" y="734"/>
                  </a:moveTo>
                  <a:cubicBezTo>
                    <a:pt x="113" y="522"/>
                    <a:pt x="227" y="311"/>
                    <a:pt x="318" y="190"/>
                  </a:cubicBezTo>
                  <a:cubicBezTo>
                    <a:pt x="409" y="69"/>
                    <a:pt x="469" y="16"/>
                    <a:pt x="544" y="8"/>
                  </a:cubicBezTo>
                  <a:cubicBezTo>
                    <a:pt x="619" y="0"/>
                    <a:pt x="688" y="23"/>
                    <a:pt x="771" y="144"/>
                  </a:cubicBezTo>
                  <a:cubicBezTo>
                    <a:pt x="854" y="265"/>
                    <a:pt x="998" y="636"/>
                    <a:pt x="1043" y="7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2760" y="4932360"/>
              <a:ext cx="259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Displacement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16560" y="709164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Position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413000" y="87771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Page 162 Questions 1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FE3-9FEA-49A1-8FBD-2718554863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ongitu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quires a medium – cannot travel through a vac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uman range of hearing= 20-20000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peed depends on medium. Eg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i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30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500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000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F26-2C11-4DAE-871A-B537B73982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eismic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duced by earthqu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 or primary waves are longitudinal and travel at 8-13k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 or secondary waves are transverse and travel at 4-8k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econdary waves cannot travel through a liquid. (This is how we worked out the earth has a liquid outer c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75C-A79E-455B-B755-854A52BB49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ter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4280" y="1692360"/>
            <a:ext cx="6172200" cy="67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cean waves are caused by the w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shallower the water the slower the wave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ince frequency is constant, a lower wavespeed will create a  shorter wavelength, increasing the amplitude until it “breaks” at the beach. (Tsunamis are extreme cases of 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ter waves can be diffracted by headlands, islands, peninsulas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2A4-FFB4-4776-85EB-8D4CF22B03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lectromagnetic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33000" y="1692360"/>
            <a:ext cx="61722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ravel at 3x10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sist of oscillating electric and magnetic fields (hence the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 medium is req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5000" y="4716360"/>
            <a:ext cx="5689800" cy="3706200"/>
            <a:chOff x="765000" y="4716360"/>
            <a:chExt cx="5689800" cy="3706200"/>
          </a:xfrm>
        </p:grpSpPr>
        <p:sp>
          <p:nvSpPr>
            <p:cNvPr id="247" name=""/>
            <p:cNvSpPr/>
            <p:nvPr/>
          </p:nvSpPr>
          <p:spPr>
            <a:xfrm>
              <a:off x="765000" y="4716360"/>
              <a:ext cx="5689800" cy="37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000000"/>
                  </a:solidFill>
                  <a:latin typeface="Arial"/>
                </a:rPr>
                <a:t>Short Wavelength</a:t>
              </a:r>
              <a:r>
                <a:rPr b="1" lang="en-N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NZ" sz="1800" spc="-1" strike="noStrike">
                  <a:solidFill>
                    <a:srgbClr val="000000"/>
                  </a:solidFill>
                  <a:latin typeface="Arial"/>
                </a:rPr>
                <a:t>High Frequ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Gamma Ra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X-rays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U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Vi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Infra 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Microwa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Radio &amp; TV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000000"/>
                  </a:solidFill>
                  <a:latin typeface="Arial"/>
                </a:rPr>
                <a:t>Long Wavelength</a:t>
              </a:r>
              <a:r>
                <a:rPr b="1" lang="en-N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NZ" sz="1800" spc="-1" strike="noStrike">
                  <a:solidFill>
                    <a:srgbClr val="000000"/>
                  </a:solidFill>
                  <a:latin typeface="Arial"/>
                </a:rPr>
                <a:t>Low Frequ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41720" y="4932360"/>
              <a:ext cx="0" cy="33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773360" y="8532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Page 164 Questions 8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379-AE4D-43B4-B329-63B598C15B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3000" y="1763640"/>
            <a:ext cx="6172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duced by the superposition (adding together) of two identical waves moving in opposit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 energy is transfer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 displacement =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ximum displacement =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Anti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A22-F8E8-4BC0-9AF7-F9B7F0761E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22:18:56Z</dcterms:created>
  <dc:creator>Administrator</dc:creator>
  <dc:description/>
  <dc:language>en-US</dc:language>
  <cp:lastModifiedBy>Administrator</cp:lastModifiedBy>
  <dcterms:modified xsi:type="dcterms:W3CDTF">2004-01-21T21:50:56Z</dcterms:modified>
  <cp:revision>10</cp:revision>
  <dc:subject/>
  <dc:title>Waves</dc:title>
</cp:coreProperties>
</file>